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AF2-E7F0-4CB1-87B7-50BEDE5D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D6F-0B22-43EA-A89A-91B83255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F46-82B6-45F8-8CDB-9AACE67E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8D9-7798-4E48-BE79-7E87DC4C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D15-EB24-4C8B-9A21-912E62AB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69A-0741-4D1A-A674-8395EBD8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7D4-96DA-4F8E-8727-7C2425A3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897-F35D-4F21-B2FD-38EE1883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462-A739-4BE3-AEA8-11FE407B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042-1AD9-41D3-8C91-B2A3BB78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A6D-F2B5-4315-95A6-183F1A4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BD1-B657-4F98-8376-04959887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DE4E-A2A7-44BD-8982-0F97EFDEB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look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tare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ing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a.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ard. 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43760" y="4519440"/>
            <a:ext cx="819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some one who 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person that reads at 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8-10-09T19:26:48Z</dcterms:modified>
  <cp:revision>3</cp:revision>
  <dc:subject/>
  <dc:title>PowerPoint Presentation</dc:title>
</cp:coreProperties>
</file>